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627-B55D-45C7-BF92-38C895EF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BD3-8721-4DB4-9EFE-F5066C3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525-A5DA-47D5-A6E9-919842A8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5B9-CC3F-4DF8-BFDF-7A8C079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595-21C8-43DC-9304-A2B20BA8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172-2486-4D9C-B156-42CFF4B6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DB6B-CE14-4B15-A88B-B3934E94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467D-CC0A-45E4-A291-331F72D9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F4C8-82B0-4BE5-A02B-29CBA8B2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C2B0-8D62-4516-A109-79463C2F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893-4A89-40FF-85A2-63987E8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7F9-631E-493A-8F97-565C65E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708E-1596-41FB-84C6-3D8518A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C88-2B16-4A75-A3DA-2B92AEA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94A4-40AA-4957-82B5-BA16E64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43C3-113E-4986-B154-746ED807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498-06BC-4AE4-ADF9-ED5100B7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483-38A0-4DB7-ABFD-3100E794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7C9-C878-4E92-9185-572DA0F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F12-05BD-42D4-BE2E-E47258D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BDC-66AE-41A9-9933-C670D07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3EB-3B7F-431F-835A-FAFC935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1B6-2CF9-4647-8B03-F90AF67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9C0-6C3B-4A58-9392-076AD50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309-344A-4E54-9DFE-0A43DECD20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3ABA-6FAE-4EF4-9AA8-AD950E3E4F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lide.xml/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slide.xm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572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708660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&amp;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Jeopar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mountain ridges are located along the western edge of the Appalachian chai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Allegheny Mountai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forces of nature that can make these landforms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ciers, erosion, water, folding, faul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a. to the nor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ennsylvania to the w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enna. to the ea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Jers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wo natural landforms create part of the border for Pennsylva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 Erie and the Delaware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states border Pennsylvania to the sou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 Virginia, Maryland, and Dela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Pennsylvania’s larges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Pennsylvania’s second larges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ttsbu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our capit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risbu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lows from New York through Central PA to the Chesapeake B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Tahoma"/>
                <a:hlinkClick r:id="rId1"/>
              </a:rPr>
              <a:t>Susquehanna Riv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">
            <a:hlinkClick r:id="rId2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ity is located in the snow belt and is a por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nsylvania was the ________ colony to become a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o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 does not belo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, Southwest, East, W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human forces that may cause landforms to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roads, deforestation, dams/bridges/tunnels, pollution, explo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natural forces that may cause landforms to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ciers, wind, erosion, movement of the Earth’s crust, natural disa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tend you are taking a car trip.  You leave Philadelphia and drive west towards Harrisburg.  What is the first major river you will cro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quehanna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are standing in downtown Pittsburgh at the Point.  Which river is flowing to the east of yo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gheny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79c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answer to appear with a mouse-click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7035840" y="181080"/>
            <a:ext cx="1879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orms Pennsylvania’s eastern co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aware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s a tributary of the Ohio River and flows south through western 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gheny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s a tributary of the Ohio River and flows north to the city of Pittsbur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Tahoma"/>
                <a:hlinkClick r:id="rId2"/>
              </a:rPr>
              <a:t>Monongahela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lows west and forms the southern border of a PA neighb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ountain range was formed by folding and has created a plateau through western and central PA re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Allegheny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small chain of mountains is located in the northeast section of 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Pocono Mountai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answer to appear with a mouse-click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Richard DiMarco</cp:lastModifiedBy>
  <dcterms:modified xsi:type="dcterms:W3CDTF">2017-01-17T18:44:59Z</dcterms:modified>
  <cp:revision>12</cp:revision>
  <dc:subject/>
  <dc:title>Jeopardy</dc:title>
</cp:coreProperties>
</file>